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1685-D304-401B-95CC-2D1DB931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3DF-3B6E-4402-A01D-0C99111B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5E88-02F8-4ED0-A365-71B1CB5C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1B68-6180-4557-9897-B5E50381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3EE7-FA6F-4A91-85E5-74FDDB3D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9D25-EB58-4723-AA40-4EBBCC05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76D4-DE92-44CC-9CA1-37B96C57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21C5-EDBC-4F10-83AF-5AA697FA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081E-A5BE-4266-9AC2-40856B6C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2284-C231-485F-AA1F-28759566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F830-AAE1-4182-8FB6-81ABA4F6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EC65-B1E9-4DEE-BD68-CAB88EEF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CB65-044E-4D80-B037-C40BC168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21B7-7E01-4913-9BB8-829DDFCE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0F6E-0E7F-447B-82B7-88DDFC67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0372-3DA2-4372-9534-9641E31F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E49C-9506-4398-B9C8-FB627C9D4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CFD81-E07E-4B0E-8CB9-C39FF038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DD0E6-821F-4ED0-B164-07D60951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EEFF3-84E6-4405-B41F-0BED10A7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D3179-DD81-43DB-B818-C526D010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C3DD4-5B44-4A17-A3F1-64074D16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3B12-47F1-4241-BD0C-1C27DD1F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9A4F8-F493-4023-8EA1-3164BA34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DA6D0-8F3A-4639-8726-1287173C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DE961-95D6-41A3-8E77-BA896E49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790B6-F23F-4EA1-8B2E-E34691FE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E3311-D4B1-4152-9D7D-A1B11443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AEDFB-003F-4951-91F5-57DDA81C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CE744-6525-4AD6-BE2B-4485B14A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F2738-A9F0-4D5A-BEE5-57F3D589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30F93-09E2-4D47-922A-1BB87B7E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CB81A-A4B2-461B-88F2-F3864B74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4B0D-41AF-4BBE-A6A3-F8C25A5B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B4F42-9BD0-4BAE-9168-5676ED19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EA800-B1BF-4E9F-99DA-C9795FFF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7B466-F013-4472-A17E-04DFBE37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2A616-B035-42CF-A300-FDCC0F99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031C9-5960-4131-8FB1-BF4F539A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39670-9CC0-48E1-8B2F-7E0BC7ED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D7A8A-9931-408D-818D-91013AC2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40505-BAC9-4923-8BC4-D8E25A74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674B6-293A-4581-9009-0F22FC5F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B68BF-3B3F-4921-ADB9-F62A8E2E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B798-F0AE-44C1-8D22-1E569D3E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4CE82-71BA-4452-8D45-FAFD273D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7E525-1762-44C5-8817-3D9C8D7F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57526-4FD9-47FF-B4C9-F6698154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2A418-2DDB-47E2-9957-E25A10BE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7A8DB-58F1-448E-B604-1CCB5E0C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F1574-6918-4EC6-9E98-54E4A395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6FA2D-442F-4B47-BF66-E07EBFC8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953E6-4D1E-4ED3-A652-4EEDE263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2DA24-1757-4902-9FDE-C21FE18A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BF3BD-CC01-4B0B-A511-3F4675E9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F881-2025-4384-9E3B-61C58D86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8E58D-C006-4172-A097-73700FC2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F5A6-EBDF-4BD6-99BA-450B9458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D3FB-640B-4FC7-B037-17F643BF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CC58-C60A-4BFD-B801-4D6FACD5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673D-77C4-4667-A4D7-60B76169509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DF48-D821-4E5F-992A-C28C2F2E538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7B8A-EB00-48D6-B025-1B833850FA0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B124-13E2-411C-865C-6323120747C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49E4-9F3C-4683-AA83-018C1B81F59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642960"/>
            <a:ext cx="7772400" cy="300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ОБОБЩАЮЩИЙ УРОК ПО ТЕМЕ «СОЮЗ»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4362480"/>
            <a:ext cx="7772400" cy="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л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опустить нельзя, пиши слитно. Если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е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можно опустить, пиши раздельно. Союз зато = н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то(же) сегодня придет. Он придёт на то(же) место. Он так(же) поступил в музыкальную школу. Надо сделать подарок бабушке что(бы) порадовать её. Мы долго думали что(же) подарить бабушке. Спрячься за(то) дерево. Не очень ловок за(то) говорли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помним подчинительные союз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1714680"/>
            <a:ext cx="8183520" cy="4357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ременные (указывают на время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ичинные (указывают на причину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Целевые (указывают на цель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Условные (указывают на услов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Уступительные (указывают на уступку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Сравнительные (указывают на сравнен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Следственные (указывают на следств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Изъяснительные (указывают на то, о чем говорится в предложении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одчинительные союз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3280" y="1714680"/>
            <a:ext cx="818352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сставьте запятые, поставьте вопросы к зависимым предложениям, укажите вид союзов, составьте схе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Ямщики подвязали колокольчи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звон не привлек внимания сторожей. 2.По синим волнам океана лишь звёзды блеснут в небесах корабль одинокий несётся несётся на всех парусах.3. Все возы потому что на них лежали тюки с шерстью казались очень высокими и пухлы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личайте союзы и местоимения, дайте разъяснен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14080" y="1428840"/>
            <a:ext cx="393228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н не пришёл потому что заболе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н не пришёл оттого что заболе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т того берега отчалила лодк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756320" y="1499760"/>
            <a:ext cx="3930480" cy="4357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о тому болоту пройти нельз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А кто их разберет, что они кричат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Немного отдохнем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14080" y="1213920"/>
            <a:ext cx="3932280" cy="4714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Шара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ноты, союз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месте – игр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ую люби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ть детвор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, предлог и падежная форм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го местоим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ют вкусный плод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жноамериканского раст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56320" y="1499760"/>
            <a:ext cx="3930480" cy="442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– на дерев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мой слог – союз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я матер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костюм гожу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Найти союзы, указать их разряд,  расставить знаки препина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3280" y="164304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тцветает черёмуха зато расцвела бузина и под нею земляника. 2. Марьяна улыбалась редко но её улыбка всегда поражала. 3.В деревню мы собирались затем чтобы отдохнуть собрать ягод  и грибов позагорать и покупаться.4.Лошадь не могла сдвинуть воз потому что заднее колесо соскочило. 5.Нет ничего в мире что могло бы прикрыть Днепр.6.Я склонился к реке но и там тоже колыхались и дрожали звёз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1499760"/>
            <a:ext cx="8183520" cy="3218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Творческая рабо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ение-миниатюра «Компьютер в моей жизни» с использованием сочинительных и подчинительных союз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503280" y="2071440"/>
            <a:ext cx="8183520" cy="2646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 – неизменяемая часть речи, которая не является членом предложения, связывает однородные члены, части сложного предложения и самостоятельные  предложения целого текс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Эпиграф к урок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2214720"/>
            <a:ext cx="8183520" cy="2503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Ломоносов так определял роль союзов: «…Союзы не что иное суть, как средства, которыми идеи соединяются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минка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(тест с взаимопроверкой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14080" y="1428840"/>
            <a:ext cx="3932280" cy="4643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В каждом столбике укажи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то же;      г) и та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) так что;   д) такж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) что же;    е) так ж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В каждом ряду выдели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сочинительный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также, так как, чт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) если, то…то, буд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) едва, потому что, 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756320" y="1499760"/>
            <a:ext cx="3930480" cy="442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предел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ричинный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удто, словно, потому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временно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, пока, точн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изъяснительны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коро, что, оттого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должение тес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3280" y="1642680"/>
            <a:ext cx="8183520" cy="4071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асти какого предложения связаны сочинительным союзо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Что легко достается, то дёшево ценит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В комнате было тихо, во всем доме тоже не было зву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Необходимо выйти рано, чтобы вовремя достичь перев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Учитель похвалил ученика за то, что он хорошо подготовился к зачёт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должение тес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8760" y="1500120"/>
            <a:ext cx="7572240" cy="4500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ыпиши номера, где необходимо поставить запяты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Мы очень поздно вышли из дома(1) вследствие чего(2)не успели к открытию спартакиад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Слышится(1)то шёпот(2)то осторожный шеле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Отряд остановился(1)так(2)как впереди была отвесная ск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Для того(1)чтобы добраться до озера(2) потребовалось немало време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Ключ к тест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1499760"/>
            <a:ext cx="8183520" cy="4643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б, 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тоже, то..то, 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потому что, пока,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а)-1; б)-2; в)-1; г)-1; д)-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по шкал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 - нет оши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4» - одна ошиб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» - две ошиб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2» - более двух оши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интаксическая пятиминут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1500120"/>
            <a:ext cx="8183520" cy="4500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пишите, вставляя пропущенные буквы. Составьте схему второго и третьего  предложений, укажите роль союз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_л_чайшее б_га_ство народа – его язык! 2.Тыс_ч_летиями накапл_ваю_ся и вечно живут в слов_ (не)сметные сокров_ща ч_л_веч_ской мысли и опыта.  3.Прав был В.Г.Белинский, утверждая, что «язык живёт вместе с жизнью народа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помним: Запятая между однородными членам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14080" y="1213920"/>
            <a:ext cx="3932280" cy="4714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витс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, О,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(но, зато)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 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177800" y="1714680"/>
            <a:ext cx="3521160" cy="441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ставитс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устойчивых выражения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т перечисл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тавьте пропущенные буквы и знаки препинан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1714320"/>
            <a:ext cx="8183520" cy="4500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ишите, вставляя пропущенные буквы, найдите союзы, определите их групп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_й(час) и дома и на работе к_мп_ют_ры ст_новя_ся (не)зам_нимыми п_мощниками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сколько разных свед_ний хр_нят к_мп_ют_ры в св_ей пам_ти! Они вс_гда к вашим услугам и в любой м_мент мгн_венно дадут нужную спра_ку. Как уч_ному так и врачу инж_неру и учит_лю  п_сат_лю и к_мп_зитору  к_нструктору и агр_ному – всем может помоч_ к_мп_ют_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5:42:20Z</dcterms:created>
  <dc:creator>Admin</dc:creator>
  <dc:description/>
  <dc:language>en-US</dc:language>
  <cp:lastModifiedBy>Windows 7</cp:lastModifiedBy>
  <dcterms:modified xsi:type="dcterms:W3CDTF">2013-05-07T02:13:00Z</dcterms:modified>
  <cp:revision>107</cp:revision>
  <dc:subject/>
  <dc:title>Союзы</dc:title>
</cp:coreProperties>
</file>